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E82-2A56-44C5-8F09-172489A4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B8D-921F-4F9A-A042-5212852D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DB5-B182-4966-9CBB-632358C5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458-2881-41D0-A850-DF535346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21D-C2BE-4202-8C73-FC142D73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902-2404-4665-B8C1-8A796F60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A93-E26D-4393-BED4-0C893495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D4D-5001-4D28-8DD9-D687DC79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F6E-697D-4FA0-B91F-1DFE4F2E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0CE-8BEE-45D6-BAC3-62497E1B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35E-944D-45C2-B26E-D90375E1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674-0ACB-4DAD-89F3-E64CD343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1D90-02C2-45CF-A24E-31F3F877EF2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5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emical Reactions and Quantit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33"/>
                </a:solidFill>
                <a:latin typeface="Arial"/>
              </a:rPr>
              <a:t>Types of Reaction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33"/>
                </a:solidFill>
                <a:latin typeface="Arial"/>
              </a:rPr>
              <a:t>Oxidation-Reduction Reaction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assify the following reactions a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single replacement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uble replacem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2Al  +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A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B.  N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2Ag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A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2Na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C.  3C  +  Fe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2Fe   +  3C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343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0292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57150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us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reaction in which a compound (often carbon) reacts with  oxyge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  +   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2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5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4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6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6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6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505320"/>
            <a:ext cx="990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267080"/>
            <a:ext cx="990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876920"/>
            <a:ext cx="990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5410080"/>
            <a:ext cx="990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lance the combustion equat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___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2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___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___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 ___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65760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lance the combustion equat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2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8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        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5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6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365760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xidation and Re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ctions that involve a loss or gain of elec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ccurs in many of the 4 types of reactions and combus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in food metabolism, batteries, rusting of meta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quirements for Oxidization-Reduct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s are transferre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wo processes occu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xidat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 Loss of electrons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(LEO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2+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 2e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duct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Gain of electrons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GER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+ 2e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419720"/>
            <a:ext cx="9144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5638680"/>
            <a:ext cx="9144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ed Red-Ox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the oxidation and reduction reactions to mak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ss of electrons = Gain of elec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  +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+ 2e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2+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 2e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  +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r>
              <a:rPr b="1" lang="en-US" sz="3200" spc="-1" strike="noStrike" baseline="30000">
                <a:solidFill>
                  <a:srgbClr val="00ffff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2+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876920"/>
            <a:ext cx="9144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00040" y="3657600"/>
            <a:ext cx="762120" cy="685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114800"/>
            <a:ext cx="9144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095520" y="3733920"/>
            <a:ext cx="762120" cy="685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in/Loss of Hydrog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organic and biological reac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xidation = Loss of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reduction = Gain of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the following as an 1) oxidation or a reduction proces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A.    S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n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+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4e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B.    F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+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1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C.    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2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27672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3809880"/>
            <a:ext cx="6094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1972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the following as an 1) oxidation or a reduction proces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 A.    S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n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+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4e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 B.    F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+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1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 C.    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2e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80988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441972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ype of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emical reactions are classified into four general typ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Combinat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Decomposit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Single Replacem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Double Replacem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light-sensitive sunglasses, UV light initiates an oxidation-reduction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g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Ag   +    C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Which reactant is oxidiz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g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3) A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Which reactant is reduced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g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3) C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327672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light-sensitive sunglasses, UV light initiates an oxidation-reduction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g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Ag   +    C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Which reactant is oxidiz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l   + e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Which reactant is reduced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g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g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+ e-            A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327672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441972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5486400"/>
            <a:ext cx="7617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ination (Synthesis)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or more elements or simple compounds combine to form (synthesize) one produ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  +  B  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B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Mg  +  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Mg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Na  + 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Na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343400"/>
            <a:ext cx="11430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5410080"/>
            <a:ext cx="11430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876920"/>
            <a:ext cx="11430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733920"/>
            <a:ext cx="11430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composi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ne substance is broken down (split) into two or more simpler substance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  +  B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Hg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Hg   +  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KCl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KCl  + 3 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80988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41972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95288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assify the following reactions a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ombination or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omposi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A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Br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HB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B.  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3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C.  4 Al   + 3C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9625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6483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53341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R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assify the following reactions a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) combination or 2) decomposi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A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Br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HB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B.  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3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C.  4 Al   + 3C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35053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1911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4876920"/>
            <a:ext cx="838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ngle Replac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ne element takes the place of  an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lement in a reacting compound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A  +  BC 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AB   + C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2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  Cu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u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3352680"/>
            <a:ext cx="106704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96252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ouble Replac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elements in reactants take the place of  each oth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B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CD 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D   + C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gN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NaCl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g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Na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Z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 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2HCl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Zn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373392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49568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5105520"/>
            <a:ext cx="1066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R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assify the following reactions a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single replacement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uble replacem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2Al  +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A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B.  N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2Ag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A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2Na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C.  3C  +  Fe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2Fe   +  3C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03848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72428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1008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  Timberlake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15:52:32Z</dcterms:created>
  <dc:creator>Ana Selby</dc:creator>
  <dc:description/>
  <dc:language>en-US</dc:language>
  <cp:lastModifiedBy>Timberlake</cp:lastModifiedBy>
  <cp:lastPrinted>1999-03-26T01:13:54Z</cp:lastPrinted>
  <dcterms:modified xsi:type="dcterms:W3CDTF">2000-03-08T06:10:02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5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